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3.jpeg" ContentType="image/jpeg"/>
  <Override PartName="/ppt/media/image2.jpeg" ContentType="image/jpeg"/>
  <Override PartName="/ppt/media/image3.jpeg" ContentType="image/jpeg"/>
  <Override PartName="/ppt/media/mitsve_tentsl_64.wav" ContentType="audio/x-wav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7C83-92CB-4C40-B19B-364DF60FD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60A7-BC10-4173-A381-AB3E91168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3157-4291-44D0-BCBE-25338AA86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2962-D3BE-4952-B82A-6BA3B97CD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CFF9-78C4-4136-8F0C-6B1241151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0DD0-943A-4F82-BB0A-9700B441F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FAC3-3689-42AF-9C00-8EC5ED241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3405-1150-4D15-96E2-14AA7D92B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0130-69CE-4B7F-8EC1-8DAEE97E4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F2D9-40BC-44A2-A2AA-83508C3E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4B20-D5D2-486C-AB38-45242844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1C0D-1A60-428A-9FFE-CE11379B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28B43-3B6A-4600-9DDD-B133C50467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mitsve_tentsl_64.wav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973080" y="0"/>
            <a:ext cx="11592000" cy="72691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140720" y="1197000"/>
            <a:ext cx="5002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 u="sng">
                <a:solidFill>
                  <a:srgbClr val="ffff00"/>
                </a:solidFill>
                <a:uFillTx/>
                <a:latin typeface="Times New Roman"/>
              </a:rPr>
              <a:t>Marc Chagal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9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5e751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The Fiddler"/>
          <p:cNvPicPr/>
          <p:nvPr/>
        </p:nvPicPr>
        <p:blipFill>
          <a:blip r:embed="rId1"/>
          <a:stretch/>
        </p:blipFill>
        <p:spPr>
          <a:xfrm>
            <a:off x="3432240" y="0"/>
            <a:ext cx="571176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21160" y="2092320"/>
            <a:ext cx="2436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The Fiddl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1912-13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National Galle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of A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Washingt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D.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The Birthday"/>
          <p:cNvPicPr/>
          <p:nvPr/>
        </p:nvPicPr>
        <p:blipFill>
          <a:blip r:embed="rId1"/>
          <a:stretch/>
        </p:blipFill>
        <p:spPr>
          <a:xfrm>
            <a:off x="571680" y="457200"/>
            <a:ext cx="8001000" cy="6400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225960" y="41400"/>
            <a:ext cx="269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The Birthday, 19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The Painter to the Moon"/>
          <p:cNvPicPr/>
          <p:nvPr/>
        </p:nvPicPr>
        <p:blipFill>
          <a:blip r:embed="rId1"/>
          <a:stretch/>
        </p:blipFill>
        <p:spPr>
          <a:xfrm>
            <a:off x="1714680" y="-74520"/>
            <a:ext cx="7429320" cy="70070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16360" y="1752480"/>
            <a:ext cx="1572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ain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o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917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arc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ien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ollecti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ase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The Praying Jew"/>
          <p:cNvPicPr/>
          <p:nvPr/>
        </p:nvPicPr>
        <p:blipFill>
          <a:blip r:embed="rId1"/>
          <a:stretch/>
        </p:blipFill>
        <p:spPr>
          <a:xfrm>
            <a:off x="3994200" y="0"/>
            <a:ext cx="51498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817560" y="2441520"/>
            <a:ext cx="2533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aying Jew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3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il on canva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rt Institu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Chic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Green Violinist"/>
          <p:cNvPicPr/>
          <p:nvPr/>
        </p:nvPicPr>
        <p:blipFill>
          <a:blip r:embed="rId1"/>
          <a:stretch/>
        </p:blipFill>
        <p:spPr>
          <a:xfrm>
            <a:off x="5423040" y="0"/>
            <a:ext cx="372096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18040" y="2076480"/>
            <a:ext cx="3205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Green Violinis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1923-24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oil on canva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The Solomon 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Guggenheim Museum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New Yor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Lovers with Flowers"/>
          <p:cNvPicPr/>
          <p:nvPr/>
        </p:nvPicPr>
        <p:blipFill>
          <a:blip r:embed="rId1"/>
          <a:stretch/>
        </p:blipFill>
        <p:spPr>
          <a:xfrm>
            <a:off x="3182760" y="0"/>
            <a:ext cx="596124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13120" y="2092320"/>
            <a:ext cx="2875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Lo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Flower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1927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oil on canva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The Israel Museum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Jerusalem</a:t>
            </a:r>
            <a:r>
              <a:rPr b="1" lang="he-IL" sz="24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Lovers in the Lilacs"/>
          <p:cNvPicPr/>
          <p:nvPr/>
        </p:nvPicPr>
        <p:blipFill>
          <a:blip r:embed="rId1"/>
          <a:stretch/>
        </p:blipFill>
        <p:spPr>
          <a:xfrm>
            <a:off x="4565520" y="0"/>
            <a:ext cx="457848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050480" y="2305080"/>
            <a:ext cx="2901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Lovers in the Lilac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1930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oil on canva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Richard S. Zeisl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Collecti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New Y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Solitude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60008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072440" y="193680"/>
            <a:ext cx="700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Solitude, 1933, oil on canvas, The Tel-Aviv Muse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Bouquet with Flying Lovers"/>
          <p:cNvPicPr/>
          <p:nvPr/>
        </p:nvPicPr>
        <p:blipFill>
          <a:blip r:embed="rId1"/>
          <a:stretch/>
        </p:blipFill>
        <p:spPr>
          <a:xfrm>
            <a:off x="4197240" y="0"/>
            <a:ext cx="494676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105920" y="1879560"/>
            <a:ext cx="201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Bouqu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Fly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Lover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1934-47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oil on canva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Tate Gallery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Lond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The Three Candles"/>
          <p:cNvPicPr/>
          <p:nvPr/>
        </p:nvPicPr>
        <p:blipFill>
          <a:blip r:embed="rId1"/>
          <a:stretch/>
        </p:blipFill>
        <p:spPr>
          <a:xfrm>
            <a:off x="4129200" y="0"/>
            <a:ext cx="50148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87600" y="498600"/>
            <a:ext cx="282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The Three Candl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1938-40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private collec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2040" y="5410080"/>
            <a:ext cx="162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33"/>
                </a:solidFill>
                <a:latin typeface="Times New Roman"/>
              </a:rPr>
              <a:t>TH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55760" y="5943600"/>
            <a:ext cx="162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33"/>
                </a:solidFill>
                <a:latin typeface="Times New Roman"/>
              </a:rPr>
              <a:t>EN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1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Chagall: Self-Portrait"/>
          <p:cNvPicPr/>
          <p:nvPr/>
        </p:nvPicPr>
        <p:blipFill>
          <a:blip r:embed="rId1"/>
          <a:stretch/>
        </p:blipFill>
        <p:spPr>
          <a:xfrm>
            <a:off x="3240" y="0"/>
            <a:ext cx="9140760" cy="10515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428320" y="-954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60280" y="64008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a50021"/>
                </a:solidFill>
                <a:latin typeface="Times New Roman"/>
              </a:rPr>
              <a:t>ס.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0" y="-76320"/>
            <a:ext cx="801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Marc Chagall (1887-1985)</a:t>
            </a:r>
            <a:r>
              <a:rPr b="1" lang="en-US" sz="5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fade/>
    <p:sndAc>
      <p:stSnd>
        <p:snd r:embed="rId2" name="mitsve_tentsl_64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ed5c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Red Nude Sitting Up"/>
          <p:cNvPicPr/>
          <p:nvPr/>
        </p:nvPicPr>
        <p:blipFill>
          <a:blip r:embed="rId1"/>
          <a:stretch/>
        </p:blipFill>
        <p:spPr>
          <a:xfrm>
            <a:off x="3833640" y="0"/>
            <a:ext cx="531036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59600" y="2076480"/>
            <a:ext cx="2597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Nu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Sitting Up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908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oil on canva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Private collecti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Lond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9075"/>
            </a:gs>
            <a:gs pos="100000">
              <a:srgbClr val="00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I and the Village"/>
          <p:cNvPicPr/>
          <p:nvPr/>
        </p:nvPicPr>
        <p:blipFill>
          <a:blip r:embed="rId1"/>
          <a:stretch/>
        </p:blipFill>
        <p:spPr>
          <a:xfrm>
            <a:off x="3697200" y="0"/>
            <a:ext cx="54468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69960" y="1870200"/>
            <a:ext cx="1249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Villag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1911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oi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canv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Adam and Eve"/>
          <p:cNvPicPr/>
          <p:nvPr/>
        </p:nvPicPr>
        <p:blipFill>
          <a:blip r:embed="rId2"/>
          <a:stretch/>
        </p:blipFill>
        <p:spPr>
          <a:xfrm>
            <a:off x="4300560" y="0"/>
            <a:ext cx="484344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21120" y="2441520"/>
            <a:ext cx="2171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Ad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Ev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1912, St. Lou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Art Muse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The Cattle Dealer"/>
          <p:cNvPicPr/>
          <p:nvPr/>
        </p:nvPicPr>
        <p:blipFill>
          <a:blip r:embed="rId1"/>
          <a:stretch/>
        </p:blipFill>
        <p:spPr>
          <a:xfrm>
            <a:off x="0" y="2530440"/>
            <a:ext cx="9144000" cy="4327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185120" y="0"/>
            <a:ext cx="68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The Cattle Dealer, 1912, oil on canva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Öffentliche Kunstsammlung, Kunstmuseum, Bas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33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The Spoonful of Milk"/>
          <p:cNvPicPr/>
          <p:nvPr/>
        </p:nvPicPr>
        <p:blipFill>
          <a:blip r:embed="rId1"/>
          <a:stretch/>
        </p:blipFill>
        <p:spPr>
          <a:xfrm>
            <a:off x="3666960" y="0"/>
            <a:ext cx="547704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080" y="3216240"/>
            <a:ext cx="388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The Spoonful of Milk, 191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The Pinch of Snuff"/>
          <p:cNvPicPr/>
          <p:nvPr/>
        </p:nvPicPr>
        <p:blipFill>
          <a:blip r:embed="rId2"/>
          <a:stretch/>
        </p:blipFill>
        <p:spPr>
          <a:xfrm>
            <a:off x="4402080" y="0"/>
            <a:ext cx="474192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920" y="2092320"/>
            <a:ext cx="1495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Pin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nuff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1912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priv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coll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33"/>
            </a:gs>
            <a:gs pos="50000">
              <a:srgbClr val="000000"/>
            </a:gs>
            <a:gs pos="100000">
              <a:srgbClr val="66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Jew at Prayer"/>
          <p:cNvPicPr/>
          <p:nvPr/>
        </p:nvPicPr>
        <p:blipFill>
          <a:blip r:embed="rId1"/>
          <a:stretch/>
        </p:blipFill>
        <p:spPr>
          <a:xfrm>
            <a:off x="3995640" y="0"/>
            <a:ext cx="514836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11560" y="3139920"/>
            <a:ext cx="323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Jew at Prayer, 1912-1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21:32:21Z</dcterms:created>
  <dc:creator>soli</dc:creator>
  <dc:description/>
  <dc:language>en-US</dc:language>
  <cp:lastModifiedBy>WinuE</cp:lastModifiedBy>
  <dcterms:modified xsi:type="dcterms:W3CDTF">2009-04-30T07:59:37Z</dcterms:modified>
  <cp:revision>22</cp:revision>
  <dc:subject/>
  <dc:title>מצגת של PowerPoint</dc:title>
</cp:coreProperties>
</file>